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4.png" ContentType="image/png"/>
  <Override PartName="/ppt/media/image8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5.pct" ContentType="image/x-pict"/>
  <Override PartName="/ppt/media/image6.pct" ContentType="image/x-pict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7336-9261-4C62-BF24-0A776273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892-2EAD-42F1-8419-791E840E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70E9-E6CD-47DC-A466-E17DFF0F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20A5-2325-48CE-BE33-3BED82D1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E3B-685C-40C0-A000-AFB030FA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956-B682-4865-B669-12AE335F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3A6-416B-407B-91D3-3DA62D8E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3C08-7E53-47A5-B53F-FF200D63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B69-41A6-4DDC-8626-428B1DD1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28D-99BE-422E-92EB-1F4FBB8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4FA8-426E-4B47-8AA3-A30A034E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B0B-E85D-4EBE-9EBF-C08F8503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BFC7-3419-4567-B73B-28839C26033D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This%20is%20Jeopard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54.xml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44.xml"/><Relationship Id="rId13" Type="http://schemas.openxmlformats.org/officeDocument/2006/relationships/slide" Target="slide16.xml"/><Relationship Id="rId14" Type="http://schemas.openxmlformats.org/officeDocument/2006/relationships/slide" Target="slide26.xml"/><Relationship Id="rId15" Type="http://schemas.openxmlformats.org/officeDocument/2006/relationships/slide" Target="slide36.xml"/><Relationship Id="rId16" Type="http://schemas.openxmlformats.org/officeDocument/2006/relationships/slide" Target="slide46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8.xml"/><Relationship Id="rId21" Type="http://schemas.openxmlformats.org/officeDocument/2006/relationships/slide" Target="slide38.xml"/><Relationship Id="rId22" Type="http://schemas.openxmlformats.org/officeDocument/2006/relationships/slide" Target="slide48.xml"/><Relationship Id="rId23" Type="http://schemas.openxmlformats.org/officeDocument/2006/relationships/slide" Target="slide30.xml"/><Relationship Id="rId24" Type="http://schemas.openxmlformats.org/officeDocument/2006/relationships/slide" Target="slide40.xml"/><Relationship Id="rId25" Type="http://schemas.openxmlformats.org/officeDocument/2006/relationships/slide" Target="slide5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52.xml"/><Relationship Id="rId29" Type="http://schemas.openxmlformats.org/officeDocument/2006/relationships/slide" Target="slide2.xml"/><Relationship Id="rId30" Type="http://schemas.openxmlformats.org/officeDocument/2006/relationships/image" Target="../media/image2.png"/><Relationship Id="rId31" Type="http://schemas.openxmlformats.org/officeDocument/2006/relationships/slide" Target="slide2.xml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096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does the autonomic nervous system control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051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Involuntary motio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44792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What are the 2 types of autonomic motion and what do they do?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094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Sympathetic- allows body to function under stress (fight or flight)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Parasympathetic- calms body back down after stress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concuss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a brain injur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re does the concussion result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1337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It results with injures to the neck and the spin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981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spinal cord injur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2952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a damage in the spinal cord that can make you loss   your sensa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o can get it??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 can happen to anyone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n can someone get i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33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They can get it in any ag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29528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ich disease can be prevented by taking folic acids when pregnan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Spina Bifid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371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n does Multiple Sclerosis occu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Between the late 20s and early 40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2860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As we age, what happen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Neurons die from normal wear, tear and injur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dden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Illness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1st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i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Identify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e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Pictu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Diseases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Disord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2952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are the 3 surgical treatments for Parkinson’s Diseas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Pallidotomy, Thalamotomy and Deep-Brain Stimula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kind of brain disorder is Epileps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Seizure Disord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6668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Ictu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The whole Epileptic Seizur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6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Post-Ictu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8288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The time period after an Epileptic seizur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9810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sensory nerv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600200"/>
            <a:ext cx="78487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ff66cc"/>
                </a:solidFill>
                <a:latin typeface="Times New Roman"/>
              </a:rPr>
              <a:t>Nerves that send messages to the brain through the spinal cord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219320"/>
            <a:ext cx="7848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Brain, Spinal cord, and nerves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9810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motor nerv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066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Nerves that carry impulses from the brain to the muscles and gland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’s the MR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the Magnetinc Resonace Angiography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590920"/>
            <a:ext cx="777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66cc"/>
                </a:solidFill>
                <a:latin typeface="Times New Roman"/>
              </a:rPr>
              <a:t>What is this?</a:t>
            </a:r>
            <a:endParaRPr b="0" lang="en-US" sz="4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1158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133720"/>
            <a:ext cx="78487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66cc"/>
                </a:solidFill>
                <a:latin typeface="Times New Roman"/>
              </a:rPr>
              <a:t>The Spinal Cord</a:t>
            </a:r>
            <a:endParaRPr b="0" lang="en-US" sz="5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2743200"/>
            <a:ext cx="74674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66cc"/>
                </a:solidFill>
                <a:latin typeface="Times New Roman"/>
              </a:rPr>
              <a:t>What is this?</a:t>
            </a:r>
            <a:endParaRPr b="0" lang="en-US" sz="51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The brai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821160"/>
            <a:ext cx="51008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66cc"/>
                </a:solidFill>
                <a:latin typeface="Times New Roman"/>
              </a:rPr>
              <a:t>What are these 3 parts of the brain called?</a:t>
            </a:r>
            <a:endParaRPr b="0" lang="en-US" sz="3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5753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838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The STN, Thalamus, &amp; Quiet Zone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79246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1337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Times New Roman"/>
              </a:rPr>
              <a:t>What are the three component of the central nervous system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What type of nerves are these?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638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133720"/>
            <a:ext cx="7848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ff66cc"/>
                </a:solidFill>
                <a:latin typeface="Times New Roman"/>
              </a:rPr>
              <a:t>Motor nerves</a:t>
            </a:r>
            <a:endParaRPr b="0" lang="en-US" sz="9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80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type of nerves are thes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0673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133720"/>
            <a:ext cx="7848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66cc"/>
                </a:solidFill>
                <a:latin typeface="Times New Roman"/>
              </a:rPr>
              <a:t>Sensory Nerves</a:t>
            </a:r>
            <a:endParaRPr b="0" lang="en-US" sz="87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doesn’t close properly in 1/1000 babies, who have Spina Bifid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133720"/>
            <a:ext cx="784872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ff66cc"/>
                </a:solidFill>
                <a:latin typeface="Times New Roman"/>
              </a:rPr>
              <a:t>The Neural Tube</a:t>
            </a:r>
            <a:endParaRPr b="0" lang="en-US" sz="7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do nerve impulses do?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133720"/>
            <a:ext cx="78487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recieve and transmit information to and from nerve centers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9051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are the three main nervous system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1337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Central, Somatic, and Autonomic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Jillian  Heyman</cp:lastModifiedBy>
  <dcterms:modified xsi:type="dcterms:W3CDTF">2010-03-17T00:33:48Z</dcterms:modified>
  <cp:revision>74</cp:revision>
  <dc:subject/>
  <dc:title>No Slide Title</dc:title>
</cp:coreProperties>
</file>